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C110-7574-4BB7-AC8B-EC4302CF1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3AB9-DBAD-4038-B6ED-6CDABFDCC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919E-1E56-4B60-844A-422600681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a narrative while they are marking the maps.  Students can describe other places, but th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A04-F3EC-40D8-8E09-DAA3F6B2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EA4-706E-4170-85D3-CB3FF80A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838-6CE5-444D-9B5A-195D2717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E95-4267-47FC-927C-4FF7B8A9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4FC5-02CD-4DBC-84C2-9DA3CAC2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0FF1-E7C2-41FB-8151-87B157C6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3B5B-49C9-4D29-AB72-52451852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2A4F-18F4-4D1F-901F-9CB568BB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6807-92C8-4EE4-B64F-214DE399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B0C0-3166-4BC6-B35A-7CE4F596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248C-E01A-4457-A8FA-BDDDD8CF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921-2C4A-4132-B1D9-556A4117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BFEB-0795-4139-BDDB-7E0A8C59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34FB-7B70-4AC9-8B78-B6655973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DD3C-E90D-4A0A-BD1E-FBAB7517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E48F-F2AC-4308-80E6-30F2AEFA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992D-DC5A-43FA-8437-64ED0687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2E5-B30F-4570-B907-BEFA9877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67A-C61A-4725-BE45-D188FA01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F09-1538-41EE-8042-94478EB7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921-239D-4E51-87C9-7976A052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1DA-1402-44BB-9DA2-29E136DA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912-608E-4975-AA86-DBE017B1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8D0-BC89-4CB7-B860-A59F6DD7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D31A-2B96-47FC-9AAC-CD60BEB88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FBAA-630E-43C8-92ED-782E4510A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8377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E 352: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migrant Language and Cultur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23880" y="5790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aura and Ky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tember 15, 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school children"/>
          <p:cNvPicPr/>
          <p:nvPr/>
        </p:nvPicPr>
        <p:blipFill>
          <a:blip r:embed="rId1"/>
          <a:stretch/>
        </p:blipFill>
        <p:spPr>
          <a:xfrm>
            <a:off x="2514600" y="2743200"/>
            <a:ext cx="4352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k Jose your ques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ck in groups discuss-  how effective was your questions? Who asked the most helpful ques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Guiding 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769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does DeParle “story behind the story” (paragraph 3) relate to Jose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Parle identifies several attitudes towards immigration and migration. What was Jose’s welcome like in the US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nk about Jose’s own movement to the US and the way he made his journey and the difficulties he faced. Realizing that we don’t know Jose’s motivations – what theories can your group come up with what motivated him to make this perilous and illegal trip to the U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ote- “’Transnational’ is a comfort but also a concern for those who think it impedes integration.” What do you think DeParle means by this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sho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ike Int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ogle Ear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next time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 Next Time…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d through Immigration study posted on wiki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fter you graduate, where would you choose to move to for a job? Why? Or why would you choose not to move? What factors would influence your decision?  Write a reflective para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Question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migration/immigra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you define global education in an age of migra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 and survey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st news articles to wik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nk-pair-share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lm clip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cussion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kshop time- Google Earth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ults of the surve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k pair shar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nk: what was the most salient idea from the last class was that stuck with you throughout the week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ir up with your neighbo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are out thought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The Short Life of José Antonio Gutierrez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304560"/>
            <a:ext cx="73134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aspects of José’s experience seem to you typical, and which seem deeply and uniquely person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did you learn about José’s life that would be useful for you as his teacher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a teacher, what strategies would you use in order to see and hear those things José is communicat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 you see the issues of language and national identity playing out in José’s stor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vity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 group- share out the word you wrote your paragraph ab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nd one partner who has same word or most similar wo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pairs, discuss - how does their word relate to the world of Jo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out a few ide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ne big 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the same pair- talk about what else you would need to know about Jose to welcome him into your classroom the first day – come up with three questions that would give you valuable information to work with Jose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urn to another pair near you- (make groups of four). Take your 6 questions and narrow them down to one big question that Jose could answer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20:13:30Z</dcterms:created>
  <dc:creator>lauren mcarthur</dc:creator>
  <dc:description/>
  <dc:language>en-US</dc:language>
  <cp:lastModifiedBy>Jeff Edwards</cp:lastModifiedBy>
  <dcterms:modified xsi:type="dcterms:W3CDTF">2010-09-15T03:54:47Z</dcterms:modified>
  <cp:revision>147</cp:revision>
  <dc:subject/>
  <dc:title>ED 431 Teaching History and Social Studies in the Elementary School  Class 1, 2005</dc:title>
</cp:coreProperties>
</file>